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A47-F93B-4678-8F31-0EBBA7F5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F93-AF47-4A2D-BC7F-AE7164C3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355-C034-4DBE-B183-E4761125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654-5F8E-4458-9787-D052A8B2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8FE4-50BB-411A-B1B3-9E75B494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4FD5-1F2E-4577-98CD-4E1FB52E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901E-1808-4EB1-A431-8EE89557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9E36-B76C-4A30-866B-A05F4743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F77A-C190-4DEB-9F06-6FB1A66F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4D48-4D4E-4F1E-8D2D-0DCCB9C5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6660-AE08-499D-A0F5-B079336A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318-117F-4EE6-9957-6F8223A1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2A23-E6FF-48D4-AB29-E0E82D1C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E2E5-073E-45D0-B1C1-A2F54697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0D18-7D92-468C-B5F6-B7A9EA99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65EE-98CD-44D0-9FF2-9A76CD4C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B03C-483A-4A34-B6E9-C88DF4E7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383-A497-4580-BA80-3F6CC93C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0AC-A386-4777-A190-22E8287B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685-B153-4868-9DF9-DA1AA28D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A26-7FCC-4948-9483-9981B118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EF2-2E91-43A4-AE32-FAEDCC2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A52-2E42-4808-9CEA-58A629FE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4DC-2A7F-4A97-850F-DE3C1E45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E896-E8A9-473E-B469-52B141D4ECB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7CF0-6628-4A84-86A7-56A68216D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DD48-AA93-4FE7-A73C-2A768EF557E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542E-C829-41C9-BDDC-F405AA4A5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ЮДЖЕТ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О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ДОХОДЫ БЮДЖЕТА В 2014 ГОДУ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СТРУКТУРА НАЛОГОВЫХ И НЕНАЛОГОВЫХ ДОХОДОВ В 2014 ГОДУ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3628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РМАТИВ ОТЧИСЛЕНИЙ ОТ НАЛОГА НА ДОХОДЫ ФИЗИЧЕСКИХ ЛИЦ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9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Безвозмездные поступления от других бюджетов бюджетной системы РФ          тыс.рублей</a:t>
            </a:r>
            <a:endParaRPr b="0" lang="en-US" sz="16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Диаграмма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7408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СХОДЫ БЮДЖЕТА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3" name="Диаграмма 8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7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Структура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расходов бюджета на 2014 год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396720" y="1054080"/>
            <a:ext cx="857124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Admins</cp:lastModifiedBy>
  <dcterms:modified xsi:type="dcterms:W3CDTF">2014-10-22T08:17:26Z</dcterms:modified>
  <cp:revision>46</cp:revision>
  <dc:subject/>
  <dc:title>Слайд 1</dc:title>
</cp:coreProperties>
</file>